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10.wmf" ContentType="image/x-wmf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91AD-5AAA-4152-AD1A-B384B0B3E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E269-EE40-4DB2-A95D-2F027DDD2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F27-38C9-41E5-A1C7-F0327F344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F772-B8E6-4D4E-A2D0-AFA83A7E7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3663D-2521-461D-8AEE-DA4020352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D1E5F-1A0D-4FB6-9A13-FDD8CC4B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AF91F-E7C4-4AF6-ACE3-D383D4EB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0B1EE-B1CB-4C06-8E16-A5B42D302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FD1B-EF8B-4A19-8B65-F44105C4D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F8002-C43F-40D9-BE7A-2CA0DF192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751A3-8E2B-49B1-9768-2F7DDE122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B19A3-80D2-4C59-8ADE-B9B936E61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6A211-58CC-419F-85E1-4510DB725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3528-877B-47DD-9761-058A18E4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19063-1CDD-4153-936C-8BA34F5F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9CF5-801B-4D74-BCA7-A5176B92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B380E-6319-4C5D-934F-1C24F1878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35C1A-2ED1-491B-AECB-7DF7D0C75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E6213-E5CB-4870-A769-FA5B3444F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C404-92DA-43B6-933B-C2F241E04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A066D3-A43F-49BE-9872-29BD33C72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73114-9D89-4714-B488-D71B8F8F7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6BA7-815D-4F55-87AB-24CAA4A88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C65BB8-39C3-4E0B-9597-26BC231D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99FEB-9E2B-439C-A057-526B7367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2CE50-9D11-4FBD-BA85-9E0A7C2B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22CA1-A5A2-440E-9566-6F0B813E1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68714-0016-479F-934C-F59EA6355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064C76-4BC9-4AE3-8A37-E3BB6281A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2D633-2DF8-4DF5-9657-D362AF248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535EA9-F55B-441B-AAE0-B1D2637CB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23B20-D7E4-4982-9729-9D1AC698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5FE293-EE9A-47E8-919A-949BCE175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683A-8A85-46C5-8E6D-54261096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24FC90-AC56-4557-A99B-9C53BAABE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DD416A-49C3-43FC-9751-5B765AA72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842E3-F1FE-482F-AB25-39FA296D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73978E-B9FC-4BD2-AED7-E2FFF09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2DEA6-2115-4F06-A4AC-463AD4015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8AFDF-6260-4B94-95AB-3F17880E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77D3-9DB7-4229-A05A-F85C35FF5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0093A-E453-4CEE-9083-18002DD7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51285A-12CA-4A5B-837A-86F924D3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70613B-46BE-43B6-9CC2-33A4A6039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0F57-5D2D-4F92-B1EB-AA006D743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F3AAA-774A-4947-8129-1CBB41E58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01BE6A-100A-4475-87FA-AD7F5240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D3336-8CA2-4386-BF0A-B82EBAE55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8DB974-5904-4AC5-A19C-FD91DD91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994D87-445B-4EA0-BFA7-76FE70A0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1C3C4-31FD-4F1C-9AF9-2970E529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5A10C7-99CC-4E96-A59B-8897AC4C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8F05D-01FC-4C79-A32F-3D37EAE0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47D799-C5B0-46CD-B495-5F7AB846D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C66FB8-1A25-4268-9A8E-E4CC17A87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64E17-432B-4CA9-9287-F4A3A379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B3BFB-0F34-49BE-AC84-87B0E3864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B72C0-C841-45B9-88F5-C97E16D9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9A354E-372E-40A9-85D3-30F1541D4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05CFAD-805B-48AC-9360-CF6F97AB7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4C91A8-B52A-4054-8EEC-F64B5750E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35B990-7474-4031-8B49-E6E1206C6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1F351-97CC-40DD-91D0-0BE18003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CFC95-2037-4576-9DC2-278E6705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8407AF-FB94-435F-AB39-08FFC427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71B612-C3C6-47C0-B53F-EDF7FD1D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6427-3B4F-42CF-A91F-19275F91A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5F18E2-675C-45C4-B48A-B8041AEF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B5C1C-DCCA-4DCA-BBAE-530E3B2E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C53866-0750-4C37-9911-84260DC44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009803-0ADA-4F8B-9F6F-8F3CDA556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E058FA-348A-4626-BEE9-AD434FD55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C48D53-D234-4AB7-A3C6-39EEC172A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75E5C4-8104-4FED-9A4F-7203EEC2B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AD1D9-D1F5-42D2-91B0-D08900701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304920" y="27432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4D18C-0073-4853-8B95-625C9A654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4767A-7ABD-41C7-9AB5-248071B4C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39D-24C0-4D76-9B68-08DEB8F80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20839C-7A45-4AA5-83C5-992ED4260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A3BC7-5888-4740-BF05-B7F57EA8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72CE7-82C8-4643-A0CF-ED455C211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7840" y="41072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1F8D95-38C9-4753-8D5D-18AB9B6CF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1906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76080" y="15998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30492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1906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76080" y="4107240"/>
            <a:ext cx="27478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5810D-8F89-4B80-A0B0-1A8332205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7840" y="1599840"/>
            <a:ext cx="41644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04920" y="4107240"/>
            <a:ext cx="8534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6B89-D5FC-47C6-B0C5-E732B91C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 Same Side Corner Rectangle 6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1167-E9FE-4280-9ADA-9D584AAEADD3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Straight Connector 7"/>
          <p:cNvSpPr/>
          <p:nvPr/>
        </p:nvSpPr>
        <p:spPr>
          <a:xfrm>
            <a:off x="228600" y="6524640"/>
            <a:ext cx="8686800" cy="144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ound Same Side Corner Rectangle 8"/>
          <p:cNvSpPr/>
          <p:nvPr/>
        </p:nvSpPr>
        <p:spPr>
          <a:xfrm flipV="1">
            <a:off x="228600" y="4723920"/>
            <a:ext cx="8686800" cy="1828800"/>
          </a:xfrm>
          <a:custGeom>
            <a:avLst/>
            <a:gdLst/>
            <a:ahLst/>
            <a:rect l="l" t="t" r="r" b="b"/>
            <a:pathLst>
              <a:path w="8686800" h="1828800">
                <a:moveTo>
                  <a:pt x="197218" y="0"/>
                </a:moveTo>
                <a:lnTo>
                  <a:pt x="8489582" y="0"/>
                </a:lnTo>
                <a:cubicBezTo>
                  <a:pt x="8598502" y="0"/>
                  <a:pt x="8686800" y="88298"/>
                  <a:pt x="8686800" y="197218"/>
                </a:cubicBezTo>
                <a:lnTo>
                  <a:pt x="8686800" y="1828800"/>
                </a:lnTo>
                <a:lnTo>
                  <a:pt x="8686800" y="1828800"/>
                </a:lnTo>
                <a:lnTo>
                  <a:pt x="0" y="1828800"/>
                </a:lnTo>
                <a:lnTo>
                  <a:pt x="0" y="1828800"/>
                </a:lnTo>
                <a:lnTo>
                  <a:pt x="0" y="197218"/>
                </a:lnTo>
                <a:cubicBezTo>
                  <a:pt x="0" y="88298"/>
                  <a:pt x="88298" y="0"/>
                  <a:pt x="197218" y="0"/>
                </a:cubicBezTo>
                <a:close/>
              </a:path>
            </a:pathLst>
          </a:cu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ound Same Side Corner Rectangle 9"/>
          <p:cNvSpPr/>
          <p:nvPr/>
        </p:nvSpPr>
        <p:spPr>
          <a:xfrm>
            <a:off x="228600" y="228600"/>
            <a:ext cx="8686800" cy="4419720"/>
          </a:xfrm>
          <a:custGeom>
            <a:avLst/>
            <a:gdLst/>
            <a:ahLst/>
            <a:rect l="l" t="t" r="r" b="b"/>
            <a:pathLst>
              <a:path w="8686800" h="4419600">
                <a:moveTo>
                  <a:pt x="124677" y="0"/>
                </a:moveTo>
                <a:lnTo>
                  <a:pt x="8562123" y="0"/>
                </a:lnTo>
                <a:cubicBezTo>
                  <a:pt x="8630980" y="0"/>
                  <a:pt x="8686800" y="55820"/>
                  <a:pt x="8686800" y="124677"/>
                </a:cubicBezTo>
                <a:lnTo>
                  <a:pt x="8686800" y="4419600"/>
                </a:lnTo>
                <a:lnTo>
                  <a:pt x="8686800" y="4419600"/>
                </a:lnTo>
                <a:lnTo>
                  <a:pt x="0" y="4419600"/>
                </a:lnTo>
                <a:lnTo>
                  <a:pt x="0" y="4419600"/>
                </a:lnTo>
                <a:lnTo>
                  <a:pt x="0" y="124677"/>
                </a:lnTo>
                <a:cubicBezTo>
                  <a:pt x="0" y="55820"/>
                  <a:pt x="55820" y="0"/>
                  <a:pt x="124677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228240" y="6553080"/>
            <a:ext cx="213372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895120" y="6553080"/>
            <a:ext cx="3429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857640" y="6553080"/>
            <a:ext cx="20574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56BF3-9D4D-4321-943B-E07006899865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ound Same Side Corner Rectangle 8"/>
          <p:cNvSpPr/>
          <p:nvPr/>
        </p:nvSpPr>
        <p:spPr>
          <a:xfrm>
            <a:off x="228600" y="228600"/>
            <a:ext cx="8686800" cy="4952880"/>
          </a:xfrm>
          <a:custGeom>
            <a:avLst/>
            <a:gdLst/>
            <a:ahLst/>
            <a:rect l="l" t="t" r="r" b="b"/>
            <a:pathLst>
              <a:path w="8686800" h="4953000">
                <a:moveTo>
                  <a:pt x="139724" y="0"/>
                </a:moveTo>
                <a:lnTo>
                  <a:pt x="8547076" y="0"/>
                </a:lnTo>
                <a:cubicBezTo>
                  <a:pt x="8624243" y="0"/>
                  <a:pt x="8686800" y="62557"/>
                  <a:pt x="8686800" y="139724"/>
                </a:cubicBezTo>
                <a:lnTo>
                  <a:pt x="8686800" y="4953000"/>
                </a:lnTo>
                <a:lnTo>
                  <a:pt x="8686800" y="4953000"/>
                </a:lnTo>
                <a:lnTo>
                  <a:pt x="0" y="4953000"/>
                </a:lnTo>
                <a:lnTo>
                  <a:pt x="0" y="4953000"/>
                </a:lnTo>
                <a:lnTo>
                  <a:pt x="0" y="139724"/>
                </a:lnTo>
                <a:cubicBezTo>
                  <a:pt x="0" y="62557"/>
                  <a:pt x="62557" y="0"/>
                  <a:pt x="139724" y="0"/>
                </a:cubicBezTo>
                <a:close/>
              </a:path>
            </a:pathLst>
          </a:cu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 Same Side Corner Rectangle 9"/>
          <p:cNvSpPr/>
          <p:nvPr/>
        </p:nvSpPr>
        <p:spPr>
          <a:xfrm flipV="1">
            <a:off x="228600" y="5257440"/>
            <a:ext cx="8686800" cy="129528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139696" y="0"/>
                </a:moveTo>
                <a:lnTo>
                  <a:pt x="8547104" y="0"/>
                </a:lnTo>
                <a:cubicBezTo>
                  <a:pt x="8624256" y="0"/>
                  <a:pt x="8686800" y="62544"/>
                  <a:pt x="8686800" y="139696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139696"/>
                </a:lnTo>
                <a:cubicBezTo>
                  <a:pt x="0" y="62544"/>
                  <a:pt x="62544" y="0"/>
                  <a:pt x="139696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6963F-6AE1-4E01-84BC-DA08E5D556AE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B8F3B-D646-4FB6-BF89-9B93470FA4CF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BB791-D169-492E-806A-6246A163984A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ound Same Side Corner Rectangle 8"/>
          <p:cNvSpPr/>
          <p:nvPr/>
        </p:nvSpPr>
        <p:spPr>
          <a:xfrm>
            <a:off x="228600" y="152280"/>
            <a:ext cx="8686800" cy="1295640"/>
          </a:xfrm>
          <a:custGeom>
            <a:avLst/>
            <a:gdLst/>
            <a:ahLst/>
            <a:rect l="l" t="t" r="r" b="b"/>
            <a:pathLst>
              <a:path w="8686800" h="1295400">
                <a:moveTo>
                  <a:pt x="63501" y="0"/>
                </a:moveTo>
                <a:lnTo>
                  <a:pt x="8623299" y="0"/>
                </a:lnTo>
                <a:cubicBezTo>
                  <a:pt x="8658370" y="0"/>
                  <a:pt x="8686800" y="28430"/>
                  <a:pt x="8686800" y="63501"/>
                </a:cubicBezTo>
                <a:lnTo>
                  <a:pt x="8686800" y="1295400"/>
                </a:lnTo>
                <a:lnTo>
                  <a:pt x="8686800" y="1295400"/>
                </a:lnTo>
                <a:lnTo>
                  <a:pt x="0" y="1295400"/>
                </a:lnTo>
                <a:lnTo>
                  <a:pt x="0" y="1295400"/>
                </a:lnTo>
                <a:lnTo>
                  <a:pt x="0" y="63501"/>
                </a:lnTo>
                <a:cubicBezTo>
                  <a:pt x="0" y="28430"/>
                  <a:pt x="28430" y="0"/>
                  <a:pt x="63501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4876920" y="152280"/>
            <a:ext cx="3581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4967280" y="152280"/>
            <a:ext cx="3400560" cy="12956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1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4C09-EEE4-467D-B48B-F3C87C6F8B71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ound Same Side Corner Rectangle 8"/>
          <p:cNvSpPr/>
          <p:nvPr/>
        </p:nvSpPr>
        <p:spPr>
          <a:xfrm rot="5400000">
            <a:off x="4862520" y="2300040"/>
            <a:ext cx="6095880" cy="1952640"/>
          </a:xfrm>
          <a:custGeom>
            <a:avLst/>
            <a:gdLst/>
            <a:ahLst/>
            <a:rect l="l" t="t" r="r" b="b"/>
            <a:pathLst>
              <a:path w="6096000" h="1952625">
                <a:moveTo>
                  <a:pt x="95718" y="0"/>
                </a:moveTo>
                <a:lnTo>
                  <a:pt x="6000282" y="0"/>
                </a:lnTo>
                <a:cubicBezTo>
                  <a:pt x="6053146" y="0"/>
                  <a:pt x="6096000" y="42854"/>
                  <a:pt x="6096000" y="95718"/>
                </a:cubicBezTo>
                <a:lnTo>
                  <a:pt x="6096000" y="1952625"/>
                </a:lnTo>
                <a:lnTo>
                  <a:pt x="6096000" y="1952625"/>
                </a:lnTo>
                <a:lnTo>
                  <a:pt x="0" y="1952625"/>
                </a:lnTo>
                <a:lnTo>
                  <a:pt x="0" y="1952625"/>
                </a:lnTo>
                <a:lnTo>
                  <a:pt x="0" y="95718"/>
                </a:lnTo>
                <a:cubicBezTo>
                  <a:pt x="0" y="42854"/>
                  <a:pt x="42854" y="0"/>
                  <a:pt x="95718" y="0"/>
                </a:cubicBezTo>
                <a:close/>
              </a:path>
            </a:pathLst>
          </a:custGeom>
          <a:solidFill>
            <a:srgbClr val="7fd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traight Connector 9"/>
          <p:cNvSpPr/>
          <p:nvPr/>
        </p:nvSpPr>
        <p:spPr>
          <a:xfrm>
            <a:off x="228600" y="6529320"/>
            <a:ext cx="8686800" cy="1800"/>
          </a:xfrm>
          <a:prstGeom prst="line">
            <a:avLst/>
          </a:prstGeom>
          <a:ln cap="rnd" w="12600">
            <a:solidFill>
              <a:srgbClr val="4e5b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47560" indent="-228600"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279440" indent="-182520">
              <a:spcBef>
                <a:spcPts val="700"/>
              </a:spcBef>
              <a:buClr>
                <a:srgbClr val="ea157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279440" indent="-182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22824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895120" y="6521400"/>
            <a:ext cx="342900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6781320" y="6521400"/>
            <a:ext cx="2133720" cy="3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e5b6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0984-F430-4B6F-97B6-01AA163CC2F9}" type="slidenum">
              <a:rPr b="0" lang="en-US" sz="1200" spc="-1" strike="noStrike">
                <a:solidFill>
                  <a:srgbClr val="4e5b6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" Target="slide14.xml"/><Relationship Id="rId12" Type="http://schemas.openxmlformats.org/officeDocument/2006/relationships/slide" Target="slide15.xml"/><Relationship Id="rId13" Type="http://schemas.openxmlformats.org/officeDocument/2006/relationships/slide" Target="slide16.xml"/><Relationship Id="rId14" Type="http://schemas.openxmlformats.org/officeDocument/2006/relationships/slide" Target="slide17.xml"/><Relationship Id="rId15" Type="http://schemas.openxmlformats.org/officeDocument/2006/relationships/slide" Target="slide19.xml"/><Relationship Id="rId16" Type="http://schemas.openxmlformats.org/officeDocument/2006/relationships/slide" Target="slide18.xml"/><Relationship Id="rId17" Type="http://schemas.openxmlformats.org/officeDocument/2006/relationships/slide" Target="slide20.xml"/><Relationship Id="rId18" Type="http://schemas.openxmlformats.org/officeDocument/2006/relationships/slide" Target="slide21.xml"/><Relationship Id="rId19" Type="http://schemas.openxmlformats.org/officeDocument/2006/relationships/slide" Target="slide22.xml"/><Relationship Id="rId20" Type="http://schemas.openxmlformats.org/officeDocument/2006/relationships/slide" Target="slide23.xml"/><Relationship Id="rId21" Type="http://schemas.openxmlformats.org/officeDocument/2006/relationships/slide" Target="slide24.xml"/><Relationship Id="rId22" Type="http://schemas.openxmlformats.org/officeDocument/2006/relationships/slide" Target="slide25.xml"/><Relationship Id="rId23" Type="http://schemas.openxmlformats.org/officeDocument/2006/relationships/slide" Target="slide26.xml"/><Relationship Id="rId24" Type="http://schemas.openxmlformats.org/officeDocument/2006/relationships/slide" Target="slide27.xml"/><Relationship Id="rId25" Type="http://schemas.openxmlformats.org/officeDocument/2006/relationships/slide" Target="slide28.xm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ffffff"/>
                </a:solidFill>
                <a:latin typeface="Arial Black"/>
              </a:rPr>
              <a:t>Bluff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304920" y="4800240"/>
            <a:ext cx="85341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d6ecff"/>
                </a:solidFill>
                <a:latin typeface="Arial"/>
              </a:rPr>
              <a:t>2nd Year</a:t>
            </a:r>
            <a:r>
              <a:rPr b="0" lang="es-ES_tradnl" sz="2800" spc="-1" strike="noStrike">
                <a:solidFill>
                  <a:srgbClr val="d6ec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d6ecff"/>
                </a:solidFill>
                <a:latin typeface="Arial"/>
              </a:rPr>
              <a:t>5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0" y="1599840"/>
            <a:ext cx="9144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Create a sentence using a Superlative based on the information provid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Ana tiene 6 años / Marcos tiene 8 años / Elena tiene 10 años </a:t>
            </a: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mayor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Elena es la mayor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8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28240" y="1599840"/>
            <a:ext cx="8839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Create a sentence using a Superlative based on the information provided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fd13b"/>
                </a:solidFill>
                <a:latin typeface="Arial"/>
              </a:rPr>
              <a:t>Andrés es alto / Juanito es bajo / Zacario es bajísimo </a:t>
            </a:r>
            <a:r>
              <a:rPr b="0" lang="es-ES_tradnl" sz="2800" spc="-1" strike="noStrike">
                <a:solidFill>
                  <a:srgbClr val="7fd13b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	</a:t>
            </a: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                                 </a:t>
            </a: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(alto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Andrés es el más alt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7fd13b"/>
                </a:solidFill>
                <a:latin typeface="Arial"/>
              </a:rPr>
              <a:t>Andrés es el chico más alto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3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3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3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ea157a"/>
                </a:solidFill>
                <a:latin typeface="Arial"/>
              </a:rPr>
              <a:t>Create a sentence using a Superlative based on the information provid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d13b"/>
                </a:solidFill>
                <a:latin typeface="Arial"/>
              </a:rPr>
              <a:t>Las zanahorias cuestan 3 Euros / Las cebollas cuestan 4 Euros  / Los tomates cuestan 2 Euros         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(car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d13b"/>
                </a:solidFill>
                <a:latin typeface="Arial"/>
              </a:rPr>
              <a:t>Las cebollas son las más car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7fd13b"/>
                </a:solidFill>
                <a:latin typeface="Arial"/>
              </a:rPr>
              <a:t>Las cebollas son las verduras más car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What is the name of the past tense that we have learned this chapte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The preter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El preterit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3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3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157a"/>
                </a:solidFill>
                <a:latin typeface="Arial"/>
              </a:rPr>
              <a:t>Cierto o Fal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030a0"/>
                </a:solidFill>
                <a:latin typeface="Arial"/>
              </a:rPr>
              <a:t>‘</a:t>
            </a:r>
            <a:r>
              <a:rPr b="0" lang="es-ES_tradnl" sz="4400" spc="-1" strike="noStrike">
                <a:solidFill>
                  <a:srgbClr val="7030a0"/>
                </a:solidFill>
                <a:latin typeface="Arial"/>
              </a:rPr>
              <a:t>Ciento’ is used for numbers greater than 100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fd13b"/>
                </a:solidFill>
                <a:latin typeface="Arial"/>
              </a:rPr>
              <a:t>Cier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157a"/>
                </a:solidFill>
                <a:latin typeface="Arial"/>
              </a:rPr>
              <a:t>How do verbs ending in –CAR, -GAR, &amp; -ZAR change in the ‘yo’ form of the preterit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C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G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-ZAR </a:t>
            </a:r>
            <a:r>
              <a:rPr b="0" lang="en-US" sz="3600" spc="-1" strike="noStrike">
                <a:solidFill>
                  <a:srgbClr val="feb80a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feb80a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4"/>
          <p:cNvSpPr/>
          <p:nvPr/>
        </p:nvSpPr>
        <p:spPr>
          <a:xfrm>
            <a:off x="2133720" y="3286080"/>
            <a:ext cx="1295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</a:rPr>
              <a:t>Q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</a:rPr>
              <a:t>G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fd13b"/>
                </a:solidFill>
                <a:latin typeface="Arial"/>
              </a:rPr>
              <a:t>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are the three endings of verbs that have a spelling change in the ‘yo’ form of the preteri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>
                <a:solidFill>
                  <a:srgbClr val="7fd13b"/>
                </a:solidFill>
                <a:latin typeface="Arial"/>
              </a:rPr>
              <a:t>-Gar / -Car / -Zar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87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Ochocientos seten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I played the piano and she played the guitar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Yo toqué el piano y ella tocó la guitarr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93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Novecientos treinta y sei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3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Las Regla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030a0"/>
                </a:solidFill>
                <a:latin typeface="Arial"/>
              </a:rPr>
              <a:t>2 teams / 1 scorekee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Everyone writes every answer for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addc"/>
                </a:solidFill>
                <a:latin typeface="Arial"/>
              </a:rPr>
              <a:t>If it is your teams turn, stand if you know the answer. If you are called on and answer correctly, your team gets 1 pt. for each person stand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fd13b"/>
                </a:solidFill>
                <a:latin typeface="Arial"/>
              </a:rPr>
              <a:t>You can “bluff” and earn pts. for your team even if you don´t know the ans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7030a0"/>
                </a:solidFill>
                <a:latin typeface="Arial"/>
              </a:rPr>
              <a:t>Most points – Wi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If you are called on and answer incorrectly, the points go to the other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ea157a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7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Find the three mistakes in the setence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La año pasado yo buscé mi zapatos por diez min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El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año pasado yo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busqué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mis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zapatos</a:t>
            </a: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 por diez minuto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98" dur="5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8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Rectangle 10" descr=""/>
          <p:cNvPicPr/>
          <p:nvPr/>
        </p:nvPicPr>
        <p:blipFill>
          <a:blip r:embed="rId1"/>
          <a:stretch/>
        </p:blipFill>
        <p:spPr>
          <a:xfrm>
            <a:off x="523800" y="3322800"/>
            <a:ext cx="4876920" cy="20304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C:\Users\blackh.DCSD.004\AppData\Local\Microsoft\Windows\Temporary Internet Files\Content.IE5\2N2CEY12\MP900446558[1].jpg"/>
          <p:cNvPicPr/>
          <p:nvPr/>
        </p:nvPicPr>
        <p:blipFill>
          <a:blip r:embed="rId2"/>
          <a:stretch/>
        </p:blipFill>
        <p:spPr>
          <a:xfrm>
            <a:off x="4876920" y="2050920"/>
            <a:ext cx="2952720" cy="3822840"/>
          </a:xfrm>
          <a:prstGeom prst="rect">
            <a:avLst/>
          </a:prstGeom>
          <a:ln w="0">
            <a:noFill/>
          </a:ln>
        </p:spPr>
      </p:pic>
      <p:pic>
        <p:nvPicPr>
          <p:cNvPr id="366" name="Straight Arrow Connector 7" descr=""/>
          <p:cNvPicPr/>
          <p:nvPr/>
        </p:nvPicPr>
        <p:blipFill>
          <a:blip r:embed="rId3"/>
          <a:stretch/>
        </p:blipFill>
        <p:spPr>
          <a:xfrm>
            <a:off x="1384200" y="4091040"/>
            <a:ext cx="5815080" cy="16034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9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Straight Arrow Connector 5" descr=""/>
          <p:cNvPicPr/>
          <p:nvPr/>
        </p:nvPicPr>
        <p:blipFill>
          <a:blip r:embed="rId1"/>
          <a:stretch/>
        </p:blipFill>
        <p:spPr>
          <a:xfrm>
            <a:off x="1908000" y="4029120"/>
            <a:ext cx="4065840" cy="2023920"/>
          </a:xfrm>
          <a:prstGeom prst="rect">
            <a:avLst/>
          </a:prstGeom>
          <a:ln w="0">
            <a:noFill/>
          </a:ln>
        </p:spPr>
      </p:pic>
      <p:pic>
        <p:nvPicPr>
          <p:cNvPr id="371" name="Rectangle 6" descr=""/>
          <p:cNvPicPr/>
          <p:nvPr/>
        </p:nvPicPr>
        <p:blipFill>
          <a:blip r:embed="rId2"/>
          <a:stretch/>
        </p:blipFill>
        <p:spPr>
          <a:xfrm>
            <a:off x="1305000" y="3425760"/>
            <a:ext cx="3840120" cy="20052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C:\Users\blackh.DCSD.004\AppData\Local\Microsoft\Windows\Temporary Internet Files\Content.IE5\0L7AYIOW\MP900314315[1].jpg"/>
          <p:cNvPicPr/>
          <p:nvPr/>
        </p:nvPicPr>
        <p:blipFill>
          <a:blip r:embed="rId3"/>
          <a:stretch/>
        </p:blipFill>
        <p:spPr>
          <a:xfrm>
            <a:off x="5745240" y="2155680"/>
            <a:ext cx="234792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0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Lable the pictu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Straight Arrow Connector 5" descr=""/>
          <p:cNvPicPr/>
          <p:nvPr/>
        </p:nvPicPr>
        <p:blipFill>
          <a:blip r:embed="rId1"/>
          <a:stretch/>
        </p:blipFill>
        <p:spPr>
          <a:xfrm>
            <a:off x="1158840" y="4376880"/>
            <a:ext cx="3687840" cy="1170000"/>
          </a:xfrm>
          <a:prstGeom prst="rect">
            <a:avLst/>
          </a:prstGeom>
          <a:ln w="0">
            <a:noFill/>
          </a:ln>
        </p:spPr>
      </p:pic>
      <p:pic>
        <p:nvPicPr>
          <p:cNvPr id="377" name="Rectangle 6" descr=""/>
          <p:cNvPicPr/>
          <p:nvPr/>
        </p:nvPicPr>
        <p:blipFill>
          <a:blip r:embed="rId2"/>
          <a:stretch/>
        </p:blipFill>
        <p:spPr>
          <a:xfrm>
            <a:off x="457200" y="3767040"/>
            <a:ext cx="4035600" cy="14209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2" descr="C:\Users\blackh.DCSD.004\AppData\Local\Microsoft\Windows\Temporary Internet Files\Content.IE5\BG1OMNQG\MC900250839[1].wmf"/>
          <p:cNvPicPr/>
          <p:nvPr/>
        </p:nvPicPr>
        <p:blipFill>
          <a:blip r:embed="rId3"/>
          <a:stretch/>
        </p:blipFill>
        <p:spPr>
          <a:xfrm>
            <a:off x="3962520" y="2627280"/>
            <a:ext cx="3965400" cy="299736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4" descr="C:\Users\blackh.DCSD.004\AppData\Local\Microsoft\Windows\Temporary Internet Files\Content.IE5\0L7AYIOW\MC900445692[1].wmf"/>
          <p:cNvPicPr/>
          <p:nvPr/>
        </p:nvPicPr>
        <p:blipFill>
          <a:blip r:embed="rId4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What do these three words mea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a doc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 ki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Un pez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Rectangle 4" descr=""/>
          <p:cNvPicPr/>
          <p:nvPr/>
        </p:nvPicPr>
        <p:blipFill>
          <a:blip r:embed="rId1"/>
          <a:stretch/>
        </p:blipFill>
        <p:spPr>
          <a:xfrm>
            <a:off x="3578400" y="2882880"/>
            <a:ext cx="3968640" cy="28479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4" descr="C:\Users\blackh.DCSD.004\AppData\Local\Microsoft\Windows\Temporary Internet Files\Content.IE5\0L7AYIOW\MC900445692[1].wmf"/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Conjugate the verb </a:t>
            </a: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Limpiar</a:t>
            </a:r>
            <a:r>
              <a:rPr b="0" lang="en-US" sz="4000" spc="-1" strike="noStrike">
                <a:solidFill>
                  <a:srgbClr val="ea157a"/>
                </a:solidFill>
                <a:latin typeface="Arial"/>
              </a:rPr>
              <a:t> in the preterit in all 6 for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304920" y="3429000"/>
          <a:ext cx="8458200" cy="2103480"/>
        </p:xfrm>
        <a:graphic>
          <a:graphicData uri="http://schemas.openxmlformats.org/drawingml/2006/table">
            <a:tbl>
              <a:tblPr/>
              <a:tblGrid>
                <a:gridCol w="4228920"/>
                <a:gridCol w="422928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</a:t>
                      </a: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é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amo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aste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astei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mpiaron 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pic>
        <p:nvPicPr>
          <p:cNvPr id="387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Explain the difference between these two setenc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ea157a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Yo lavé los tom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901"/>
              </a:spcBef>
              <a:buClr>
                <a:srgbClr val="ea157a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Yo lavo los tomate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a157a"/>
                </a:solidFill>
                <a:latin typeface="Arial"/>
              </a:rPr>
              <a:t>¿Cómo se dice en español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030a0"/>
                </a:solidFill>
                <a:latin typeface="Arial"/>
              </a:rPr>
              <a:t>I turned off the light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7fd13b"/>
                </a:solidFill>
                <a:latin typeface="Arial"/>
              </a:rPr>
              <a:t>Yo apagué la luz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ea157a"/>
                </a:solidFill>
                <a:latin typeface="Arial"/>
              </a:rPr>
              <a:t>Can you write this in Spanish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22.987.15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Veinte y dos millones, novecientos ochenta y siete mil, ciento cincuenta y cinc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4" descr="C:\Users\blackh.DCSD.004\AppData\Local\Microsoft\Windows\Temporary Internet Files\Content.IE5\0L7AYIOW\MC900445692[1].wmf"/>
          <p:cNvPicPr/>
          <p:nvPr/>
        </p:nvPicPr>
        <p:blipFill>
          <a:blip r:embed="rId1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3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Bluff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295280" y="1676520"/>
          <a:ext cx="6477120" cy="4419360"/>
        </p:xfrm>
        <a:graphic>
          <a:graphicData uri="http://schemas.openxmlformats.org/drawingml/2006/table">
            <a:tbl>
              <a:tblPr/>
              <a:tblGrid>
                <a:gridCol w="1295640"/>
                <a:gridCol w="1295280"/>
                <a:gridCol w="1295280"/>
                <a:gridCol w="1295640"/>
                <a:gridCol w="1295280"/>
              </a:tblGrid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1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882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1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1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1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1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1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16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17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18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19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20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e6cc"/>
                    </a:solidFill>
                  </a:tcPr>
                </a:tc>
              </a:tr>
              <a:tr h="884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21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22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23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24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4800" spc="-1" strike="noStrike" u="sng">
                          <a:solidFill>
                            <a:srgbClr val="eb8803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25</a:t>
                      </a:r>
                      <a:endParaRPr b="0" lang="en-US" sz="4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eb80a"/>
                      </a:solidFill>
                    </a:lnL>
                    <a:lnR w="5760">
                      <a:solidFill>
                        <a:srgbClr val="feb80a"/>
                      </a:solidFill>
                    </a:lnR>
                    <a:lnT w="5760">
                      <a:solidFill>
                        <a:srgbClr val="feb80a"/>
                      </a:solidFill>
                    </a:lnT>
                    <a:lnB w="5760">
                      <a:solidFill>
                        <a:srgbClr val="feb80a"/>
                      </a:solidFill>
                    </a:lnB>
                    <a:solidFill>
                      <a:srgbClr val="fff3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380880" y="159984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are the regular preterit –AR verb endings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905120" y="3809880"/>
          <a:ext cx="5105160" cy="201132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669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é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fd13b"/>
                    </a:solidFill>
                  </a:tcPr>
                </a:tc>
              </a:tr>
              <a:tr h="67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tei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8eece"/>
                    </a:solidFill>
                  </a:tcPr>
                </a:tc>
              </a:tr>
              <a:tr h="669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ó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o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f7e8"/>
                    </a:solidFill>
                  </a:tcPr>
                </a:tc>
              </a:tr>
            </a:tbl>
          </a:graphicData>
        </a:graphic>
      </p:graphicFrame>
      <p:pic>
        <p:nvPicPr>
          <p:cNvPr id="312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ea157a"/>
                </a:solidFill>
                <a:latin typeface="Arial"/>
              </a:rPr>
              <a:t>¿Cómo se dice en español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1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Ciento veinte y se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Ciento veintiséi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" dur="20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3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3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ea157a"/>
                </a:solidFill>
                <a:latin typeface="Arial"/>
              </a:rPr>
              <a:t>¿Cómo se dice en español?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030a0"/>
                </a:solidFill>
                <a:latin typeface="Arial"/>
              </a:rPr>
              <a:t>3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800" spc="-1" strike="noStrike">
                <a:solidFill>
                  <a:srgbClr val="7fd13b"/>
                </a:solidFill>
                <a:latin typeface="Arial"/>
              </a:rPr>
              <a:t>Trescientos cuarenta y cinco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¿Cómo se dice en español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Yesterday I bought two onion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Ayer yo compré dos cebolla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Find the </a:t>
            </a:r>
            <a:r>
              <a:rPr b="0" lang="es-ES_tradnl" sz="2800" spc="-1" strike="noStrike">
                <a:solidFill>
                  <a:srgbClr val="00addc"/>
                </a:solidFill>
                <a:latin typeface="Arial"/>
              </a:rPr>
              <a:t>three</a:t>
            </a:r>
            <a:r>
              <a:rPr b="0" lang="es-ES_tradnl" sz="2800" spc="-1" strike="noStrike">
                <a:solidFill>
                  <a:srgbClr val="ea157a"/>
                </a:solidFill>
                <a:latin typeface="Arial"/>
              </a:rPr>
              <a:t> mistakes in the following sete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fd13b"/>
                </a:solidFill>
                <a:latin typeface="Arial"/>
              </a:rPr>
              <a:t>Ellos limpiasteis el cocina anteayer y limpiaron la mesa tambéin.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Ellos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limpiaron la 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cocina anteayer y limpiaron la mesa </a:t>
            </a: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también</a:t>
            </a: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 Black"/>
              </a:rPr>
              <a:t>6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304920" y="15998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a157a"/>
                </a:solidFill>
                <a:latin typeface="Arial"/>
              </a:rPr>
              <a:t>What does the following  mean in English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030a0"/>
                </a:solidFill>
                <a:latin typeface="Arial"/>
              </a:rPr>
              <a:t>¡La semana pasada tú cocinaste un almuerzo grand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7fd13b"/>
                </a:solidFill>
                <a:latin typeface="Arial"/>
              </a:rPr>
              <a:t>Last week you cooked a big lunch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C:\Users\blackh.DCSD.004\AppData\Local\Microsoft\Windows\Temporary Internet Files\Content.IE5\0L7AYIOW\MC900445692[1].wmf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9480" y="76320"/>
            <a:ext cx="68580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14:33Z</dcterms:created>
  <dc:creator>Heather Heffernen</dc:creator>
  <dc:description/>
  <dc:language>en-US</dc:language>
  <cp:lastModifiedBy>Prine, Stephanie</cp:lastModifiedBy>
  <dcterms:modified xsi:type="dcterms:W3CDTF">2012-12-11T20:49:55Z</dcterms:modified>
  <cp:revision>46</cp:revision>
  <dc:subject/>
  <dc:title>Bluff</dc:title>
</cp:coreProperties>
</file>